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EA4-1D9F-4A6D-A0DA-5C58BAB3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B2E8-3390-4F68-AFB2-5E4120BC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CE78B-474F-404B-A8FF-737B0782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8A929-3D8E-41AF-9138-C616F030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6BBE1-1F7F-4814-84D8-A323FAE4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45EA2-FF04-41FB-B885-E9B0DAE3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A1C3B-8EEE-413D-8141-965E1F97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67062-4699-454D-AE33-A89FD659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9C13D-DC29-4EBA-B8A0-C80DD97A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F9248-C6D8-4265-9D2A-FC4BA683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2CA22-100A-444C-94BB-70964389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C4503-3FC2-4470-8AB6-E78501E9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C1D-C687-44ED-A022-DDB01091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3D944-4CAE-4D1C-AB01-A4183F42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AE887-85C0-4182-BD9E-764C6F7E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44D19-1FF8-491D-9498-C2F4A10A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071B8-E64E-49CE-8ED3-1D2EE285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AD006-3960-4565-BD2F-E6BA6E4A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27155-0C19-41A8-9C3F-5D4058C3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55815-3A0B-48DB-A0F2-7499A33F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223E6-CFBC-419C-88A6-A9356F57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A680B-72E7-43BF-8B96-EB73D258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D3FAE-EC8A-498F-94EA-38996EB4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815-3878-4B64-A765-AF878E6B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87700-DEE0-4DDD-BA3F-3829C54F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B04D-41B2-4175-99B2-24CF9140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3B1D-CCCF-4E88-B660-46DA1AB3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AB6D-8E9D-473C-8A7E-93AFF25B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F631-7DA4-4417-88FC-2DA721FA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5644-2054-4BEB-AEC6-8C4A9E5F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C33A-2E2C-4F85-A1F7-060B8FD8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5E1F-A15A-462A-97A0-A40785CF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6A1-AF80-45EE-98F2-C1A91383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A604-C0A3-41D3-B830-38B1B17A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D9BD-1504-46EB-BF09-01FA1AF5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6002-C8E6-495E-A025-6BACFC8F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826A-C354-45C2-B20B-75C3C533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9964-3069-469B-BD72-12088516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CDE79-8229-4313-9728-E64BD1DD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C36E0-89FA-4E39-B8E8-52251187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66C8-ACD0-4BB9-9E39-88E3F815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5392A-78E5-4078-B2C7-7F0383E9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03A66-D7E5-4E88-B949-18EE8174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FA8-5D06-4148-81A9-AA0BBF8C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1959E-D2A4-4A99-AB82-3A632A57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8FE27-FC27-4098-8828-113A609D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BB57F-2FAC-4196-9A94-F124D5A8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07733-2660-4C7B-9714-376F60C4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AEFDB-A7B3-4D50-82C8-2E736647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5DA8-297B-4264-B78B-4D240D3E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A4F4-50C2-4E67-9B4C-9C1E4FF1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B3477-A9D7-43ED-AE87-39CDD703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17767-B296-4933-A37C-451E347C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8A7D3-2971-4180-B1C4-B12CBA9E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D58-D067-4DF8-A143-ADCEA138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8E787-3D07-4CB7-ABFD-CB32E972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30112-C8F5-4652-938E-361BFCD3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FDACE-5EB3-46B2-A2DA-A07E5D20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C5A4-155F-4120-B6AE-DF97B3CB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0D154-D42C-4E66-86AD-6B415693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2D4DB-2A8F-4044-ACB9-EBD28FAA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44767-91DA-4750-9371-881823D7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4AF3B-3B1A-4479-9848-D9F9AAB4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D800E-3810-448C-A4C3-5EE1C304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F112D-2746-4BFC-9150-C1BE23B0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9B0-DBAA-4DC8-8C90-F615BA32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7F263-2A62-40A4-8D6C-17DBFFFB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61FFB-06DC-4061-8F9D-FC4DB6AC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D5ED4-AE18-4679-ACA6-26C778F7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31562-3320-4314-B385-0837E2F9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5722B-F4BE-4B7A-B06E-EA54D86E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64884-783F-46A5-9365-9D540DD6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A6FD3-6AB6-4307-A1A0-FED52A0D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E970E-7EDE-4B1E-91A1-FC50EFC9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077CD-CD71-4178-9C22-AEA00046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D9A62-1A60-4630-9476-881FC4B0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26A-1138-49B6-9385-A53F9829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F09C1-3DDC-420B-870A-090F2BC3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69E39-689B-44EE-9B4C-3D7A7C01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DE711-1EEC-4D0C-B30F-A561E192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DDE02-4482-4340-BD62-482EBF40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AE818-C66A-4185-925F-D2C5BD97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9F0BE-0DA9-405B-BC6E-44E8CA8A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6F4B9-710B-42F7-BBEA-CF0CCE1F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1B9E0-30CE-4CB3-8460-FE513CAB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36F19-CF06-4B40-A01E-E9753946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E46EE-E40D-402B-8FA4-B4B726BC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247-5441-4FD8-A258-95E4237D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DFBE8-8692-45F9-9B35-929106C4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94574-BD76-4BB4-8BD0-3513C99E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7E232-D3DC-4B0D-83D5-EE68C9C3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D53BF-7070-4B0C-AC83-AFC72278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CA683-FB05-4275-8C56-08C7332F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8381A-E9DD-422D-8D4A-0FF5DCAD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A9C1D-10B0-46CE-B197-4DF7E2DC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BC7F8-B41C-4387-BB3D-2F6E3850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D18FA-85F3-4BB3-B6F9-B9EF879E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54C26-7F52-47F2-833D-B8926960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E67-3949-49F8-A415-1EABDC22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7B555-EC69-4479-9CA4-4909CA0D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CFA25-DD98-44DD-9AF4-F69E3C03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BA968-79A0-418C-9F2F-7F197AB2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B1676-021E-4D58-923D-686D8FCC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5BBF2-E531-422A-8184-05F61A64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C8592-4E4C-47C3-B055-38298A7C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7021A-232D-4FF4-BC84-BE3FA18F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A12B2-29FA-45A9-AACB-794666B8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8EA7E-7BCB-45B0-A0D1-10F3B243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A755F-96CE-495D-AC6C-8686A49B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312-56F3-4281-BB7A-09B0EE6F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0E3C0-61CB-4AB2-848E-9C987352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513C7-536D-443E-B66F-F072C65B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53DB9-E8A5-4E51-98D7-AD1887B1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63955-4A8C-4361-81CD-0F41FDC5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95652-C657-425C-8521-372746CC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37486-E26D-44FE-B01C-E7799613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0B852-2C78-4234-8898-609641CD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4B279-462F-458E-9871-9F291451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DFD80-3580-459C-A381-ED0BD5E9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6B521-C05C-4448-AC05-C5A17DAD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96A6-277B-4B19-A7F1-9331B57294E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6A7C-8271-40F2-975C-0913C7EC4A4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5E55-7D0B-4CB2-81FD-717639BF013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D047-40AC-49EE-B7FB-B8B382F909D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061A-9EB2-491B-B324-34F0A515C3B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DEA1-207C-4F90-9E54-C1F01F46E8E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69FC-8DA5-432A-8154-ADBAB8FC307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DF06-E1F6-4AA8-97BF-159F3AA1754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D39E-00B7-4AC6-97CF-70F599C3E44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E89F-C9B1-451D-BD9D-9EE2C6040DC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3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김진수입니다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스즈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와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량위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경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박정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유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히로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리밍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Introduce yourself (in Korean) with the sentences from Lesson 1 t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는 스즈키입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이름은 김진수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만나서 반갑습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처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or the firs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뵙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ee, m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보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뵈옵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뵙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반갑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glad, be 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Irregular variation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반가웠습니다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ostposition making noun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 선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은 비가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root of the declarative ending when a noun is used as predicate (subject supp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김영수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문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상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 humble expression of the first personla pronoun ‘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. Become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with postposition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학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미국 사람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가 그 일을 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m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제 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내 가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한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Kore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구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ho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사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맑은 고딕"/>
              </a:rPr>
              <a:t>office?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) work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의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ai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중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시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t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meric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es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일본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Japa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저는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지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09T20:51:14Z</dcterms:modified>
  <cp:revision>76</cp:revision>
  <dc:subject/>
  <dc:title>KOREAN LANGUAGE</dc:title>
</cp:coreProperties>
</file>